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8A2-DB7D-4594-94E6-9C06A3EC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0B2-CEFC-4025-992B-7B486C4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91B-54FD-4B0B-9021-5601A76E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D0B-89D9-4EBB-BF5A-CFFD364E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D712-F690-4116-9656-1EBEDB32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488F-46FF-4E75-BDC5-7DA96ACA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2C47-EA50-485A-81DD-F2959FA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E75A-FEB4-46A3-A48A-46038757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BFFC-5E10-499E-AF0C-C2E53FF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05F8-1B1C-4994-9C78-2D9BF08A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7AEE-F8E5-483E-9E0E-EBFFF3EE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659-1822-47E4-88AC-2507749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8FE-396F-4AE5-AA76-498584AD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DF62-2E2F-4578-A557-71C51B8B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025C-6E81-40C7-80C8-294497B7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3D34-97EA-4F57-811B-BCF65D4D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0997-7CC2-4F42-A268-D6C4ED40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77E-45AB-4C57-93DC-2694E8F1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AAF-11A8-4AD0-B7B8-ECC25C93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5A6-B6D6-4D7E-8055-7866FD8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A96-C809-470E-850C-C2234052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0503-3DA7-4DA4-80BC-7695A07F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5E8-D251-4F06-B78F-C4D50FA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3FF-8B55-4C53-9ECE-4E8F4320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C27-4BDA-47DD-85DA-7F1114085287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629A-B91C-4AF6-966A-3FBFB4A8A4C7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1844640"/>
            <a:ext cx="6192720" cy="74448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9e6"/>
                </a:solidFill>
                <a:latin typeface="Verdana"/>
              </a:rPr>
              <a:t>Energies de la me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0" y="405288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Gestion Intégrée des Zones Côtières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un outil adapté à la mise en place d’une stratégie énergétique maritime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7080" y="0"/>
            <a:ext cx="988920" cy="1197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812000" y="1159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635280" y="115920"/>
            <a:ext cx="1513080" cy="107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6078600"/>
            <a:ext cx="3348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Sylvain ALL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Stéphanie D’AGOST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6075360"/>
            <a:ext cx="4572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19 octobr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Master 2 E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50760" y="1412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1992 : Sommet de la Terre de Rio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Agenda 21: Document de référ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002 : Recommandation europé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Stratégie nationale des Etats memb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2004 : Nouvelle politique du littoral en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Structure à trois nive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16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HISTOR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9080" y="2492280"/>
            <a:ext cx="7128000" cy="3627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00000" y="1052640"/>
            <a:ext cx="7777080" cy="459720"/>
            <a:chOff x="900000" y="1052640"/>
            <a:chExt cx="7777080" cy="459720"/>
          </a:xfrm>
        </p:grpSpPr>
        <p:sp>
          <p:nvSpPr>
            <p:cNvPr id="134" name=""/>
            <p:cNvSpPr/>
            <p:nvPr/>
          </p:nvSpPr>
          <p:spPr>
            <a:xfrm>
              <a:off x="900000" y="1052640"/>
              <a:ext cx="777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GIZC : Définitions 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    Acteu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40000" y="1339920"/>
              <a:ext cx="1728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382560" y="1267920"/>
            <a:ext cx="576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nje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itation durable des res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éveloppement de nouvelle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bjectif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émarche de concert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sion prospective et exigeante de l’avenir de ses espaces côti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2646" r="110623" b="0"/>
          <a:stretch/>
        </p:blipFill>
        <p:spPr>
          <a:xfrm>
            <a:off x="250920" y="1700280"/>
            <a:ext cx="2952720" cy="41767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900000" y="981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rte des espaces côtiers bretons (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OLITIQUE VOLONTAR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23640" y="1916280"/>
            <a:ext cx="82803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Enjeu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utte contre le réchauffement climat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écurité d’approvisionnement de la Bretag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bjectif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éduire les consommations énergét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herche de l’efficience énergét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éveloppement des énergies renouvelab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981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lan Energie pour la Bretagne (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1606680" cy="2305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2808360" cy="1928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OLITIQUE VOLONTAR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2832120"/>
            <a:ext cx="914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Verdana"/>
              </a:rPr>
              <a:t>Echelle régional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Des projets exemplaires…mais les efforts seront-ils récompensés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ff"/>
                </a:solidFill>
                <a:uFillTx/>
                <a:latin typeface="Verdana"/>
              </a:rPr>
              <a:t>Echelle national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Projets locaux / démarche nationale imposée : quelle stratégie à adopter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Verdana"/>
              </a:rPr>
              <a:t>- La nouvelle stratégie énergétique maritime sera-t-elle un frein au processus de GIZC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ERSP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M2 EGEL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Energies de la mer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fr-FR" sz="1600" spc="-1" strike="noStrike">
                <a:solidFill>
                  <a:srgbClr val="ffffff"/>
                </a:solidFill>
                <a:latin typeface="Verdana"/>
              </a:rPr>
              <a:t>                      19.10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46560" y="836640"/>
            <a:ext cx="2449440" cy="1897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252720" y="1268280"/>
            <a:ext cx="9396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Verdana"/>
              </a:rPr>
              <a:t>Merci de votre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8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78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Sylvain ALLEA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8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Stéphanie D’AGOSTIN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987640" y="5300640"/>
            <a:ext cx="2809800" cy="1181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70036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ttp://perso.orange.fr/eg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3:28:01Z</dcterms:created>
  <dc:creator>etudiant</dc:creator>
  <dc:description/>
  <dc:language>en-US</dc:language>
  <cp:lastModifiedBy>R g</cp:lastModifiedBy>
  <dcterms:modified xsi:type="dcterms:W3CDTF">2007-10-19T07:12:32Z</dcterms:modified>
  <cp:revision>35</cp:revision>
  <dc:subject/>
  <dc:title>Energies de la mer et GIZC</dc:title>
</cp:coreProperties>
</file>