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8AB-1797-4E11-A645-4ED43D63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AE8-516F-4C16-80F9-9CEFDAB6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53B-21CB-4788-878E-9D1AF6C3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853-5E9B-4179-81F3-20F864FC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EC5-D088-4680-B91C-051F75CB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159-EC83-452F-8CC7-B01358D1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D64D-A42E-43DE-8A5C-3DBE1838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55F-D10F-4714-9D3F-F5416A1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7A9-9078-4531-A3EA-A752C9C7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330-82A8-4A22-9C18-9581549F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96E-258F-4C41-9DBF-20E47BE3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F23-941D-4564-BF5B-7EA1CDBD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9A77-A859-44D3-A198-CB58B5AD5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cher.jp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480" y="1395360"/>
            <a:ext cx="9029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3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International Conference on Ocean Ener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cc"/>
                </a:solidFill>
                <a:latin typeface="Arial"/>
              </a:rPr>
              <a:t>Targeting “the successfull deployment of commercially viable ocean energy systems worldwid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GB" sz="2400" spc="-1" strike="noStrike" baseline="30000">
                <a:solidFill>
                  <a:srgbClr val="ff6600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ICOE à Brest  du 15 au 17 Octobr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-organisée par Ifremer et EDF</a:t>
            </a: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 dans le cadre de la </a:t>
            </a: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Sea Tech Week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i="1" lang="fr-FR" sz="1600" spc="-1" strike="noStrike">
                <a:solidFill>
                  <a:srgbClr val="0000cc"/>
                </a:solidFill>
                <a:latin typeface="Arial"/>
              </a:rPr>
              <a:t>en coordination avec des partenaires internationaux assoc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alternance avec l’EWTEC (“European Wave and Tidal Energy Conference” - tous les 2 ans - 2009 Suè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o-Présidée par :  Jean-Yves Perrot, Président Directeur Général d’Ifre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Yves Bamberger, Directeur de la Recherche du Groupe E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:</a:t>
            </a: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toutes énergies marines :</a:t>
            </a: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vagues, courants, marée, ETM, salinité, concepts éolien flot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de l’innovation vers l’industrie :</a:t>
            </a: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plus industriel qu’à EWTEC (académ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forte intégration des axes prioritaires de R&amp;D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dont imp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contexte régional, national et europé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Pour mémoire :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 1</a:t>
            </a:r>
            <a:r>
              <a:rPr b="1" i="1" lang="fr-FR" sz="1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conférence “énergies renouvelables en mer” - SeaTechWeek 04 (Ifremer - ADEME) 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        - 1</a:t>
            </a:r>
            <a:r>
              <a:rPr b="1" i="1" lang="fr-FR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ICOE initiée par l’ISET en octobre 2006 à Bremerhaven, Allemag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 Ifremer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171880" cy="7128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8153280" y="152280"/>
            <a:ext cx="693720" cy="1009800"/>
            <a:chOff x="8153280" y="152280"/>
            <a:chExt cx="693720" cy="1009800"/>
          </a:xfrm>
        </p:grpSpPr>
        <p:sp>
          <p:nvSpPr>
            <p:cNvPr id="46" name=""/>
            <p:cNvSpPr/>
            <p:nvPr/>
          </p:nvSpPr>
          <p:spPr>
            <a:xfrm>
              <a:off x="8153280" y="152280"/>
              <a:ext cx="693720" cy="10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EDF_Pant_21avr" descr=""/>
            <p:cNvPicPr/>
            <p:nvPr/>
          </p:nvPicPr>
          <p:blipFill>
            <a:blip r:embed="rId3"/>
            <a:stretch/>
          </p:blipFill>
          <p:spPr>
            <a:xfrm>
              <a:off x="8270640" y="324000"/>
              <a:ext cx="49032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304920" y="1295280"/>
            <a:ext cx="8610480" cy="9144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seatech" descr=""/>
          <p:cNvPicPr/>
          <p:nvPr/>
        </p:nvPicPr>
        <p:blipFill>
          <a:blip r:embed="rId4"/>
          <a:stretch/>
        </p:blipFill>
        <p:spPr>
          <a:xfrm>
            <a:off x="7467480" y="5715000"/>
            <a:ext cx="14479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hare.jpeg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480" y="1395360"/>
            <a:ext cx="9029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3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International Conference on Ocean Ener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cc"/>
                </a:solidFill>
                <a:latin typeface="Arial"/>
              </a:rPr>
              <a:t>Targeting “the successfull deployment of commercially viable ocean energy systems worldwid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GB" sz="2400" spc="-1" strike="noStrike" baseline="30000">
                <a:solidFill>
                  <a:srgbClr val="ff6600"/>
                </a:solidFill>
                <a:latin typeface="Arial"/>
              </a:rPr>
              <a:t>e</a:t>
            </a: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 ICOE à Brest  du 15 au 17 Octobr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-organisée par Ifremer et EDF</a:t>
            </a: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 dans le cadre de la </a:t>
            </a:r>
            <a:r>
              <a:rPr b="1" lang="fr-FR" sz="1800" spc="-1" strike="noStrike">
                <a:solidFill>
                  <a:srgbClr val="ff3300"/>
                </a:solidFill>
                <a:latin typeface="Arial"/>
              </a:rPr>
              <a:t>Sea Tech Week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i="1" lang="fr-FR" sz="1600" spc="-1" strike="noStrike">
                <a:solidFill>
                  <a:srgbClr val="0000cc"/>
                </a:solidFill>
                <a:latin typeface="Arial"/>
              </a:rPr>
              <a:t>en coordination avec des partenaires internationaux associ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alternance avec l’EWTEC (“European Wave and Tidal Energy Conference” - tous les 2 ans - 2009 Suè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o-Présidée par :  Jean-Yves Perrot, Président Directeur Général d’Ifre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Yves Bamberger, Directeur de la Recherche du Groupe ED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:</a:t>
            </a: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toutes énergies marines :</a:t>
            </a: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vagues, courants, marée, ETM, salinité, concepts éolien flot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de l’innovation vers l’industrie :</a:t>
            </a:r>
            <a:r>
              <a:rPr b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plus industriel qu’à EWTEC (académ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forte intégration des axes prioritaires de R&amp;D </a:t>
            </a:r>
            <a:r>
              <a:rPr b="1" lang="fr-FR" sz="1400" spc="-1" strike="noStrike">
                <a:solidFill>
                  <a:srgbClr val="ff3300"/>
                </a:solidFill>
                <a:latin typeface="Arial"/>
              </a:rPr>
              <a:t>dont imp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cc"/>
                </a:solidFill>
                <a:latin typeface="Arial"/>
              </a:rPr>
              <a:t>contexte régional, national et europé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our mémoire :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 1</a:t>
            </a:r>
            <a:r>
              <a:rPr b="1" i="1" lang="fr-FR" sz="1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conférence “énergies renouvelables en mer” - SeaTechWeek 04 (Ifremer - ADEME) 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      - 1</a:t>
            </a:r>
            <a:r>
              <a:rPr b="1" i="1" lang="fr-FR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ICOE initiée par l’ISET en octobre 2006 à Bremerhaven, Allemag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9580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Logo Ifremer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171880" cy="7128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8153280" y="152280"/>
            <a:ext cx="693720" cy="1009800"/>
            <a:chOff x="8153280" y="152280"/>
            <a:chExt cx="693720" cy="1009800"/>
          </a:xfrm>
        </p:grpSpPr>
        <p:sp>
          <p:nvSpPr>
            <p:cNvPr id="55" name=""/>
            <p:cNvSpPr/>
            <p:nvPr/>
          </p:nvSpPr>
          <p:spPr>
            <a:xfrm>
              <a:off x="8153280" y="152280"/>
              <a:ext cx="693720" cy="100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EDF_Pant_21avr" descr=""/>
            <p:cNvPicPr/>
            <p:nvPr/>
          </p:nvPicPr>
          <p:blipFill>
            <a:blip r:embed="rId3"/>
            <a:stretch/>
          </p:blipFill>
          <p:spPr>
            <a:xfrm>
              <a:off x="8270640" y="324000"/>
              <a:ext cx="49032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304920" y="1295280"/>
            <a:ext cx="8610480" cy="9144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seatech" descr=""/>
          <p:cNvPicPr/>
          <p:nvPr/>
        </p:nvPicPr>
        <p:blipFill>
          <a:blip r:embed="rId4"/>
          <a:stretch/>
        </p:blipFill>
        <p:spPr>
          <a:xfrm>
            <a:off x="7467480" y="5715000"/>
            <a:ext cx="144792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9:26:56Z</dcterms:created>
  <dc:creator>abonnel-cyr</dc:creator>
  <dc:description/>
  <dc:language>en-US</dc:language>
  <cp:lastModifiedBy>paillard</cp:lastModifiedBy>
  <cp:lastPrinted>2007-10-17T14:27:56Z</cp:lastPrinted>
  <dcterms:modified xsi:type="dcterms:W3CDTF">2007-10-17T14:40:50Z</dcterms:modified>
  <cp:revision>38</cp:revision>
  <dc:subject/>
  <dc:title>Présentation PowerPoint</dc:title>
</cp:coreProperties>
</file>