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7.pct" ContentType="image/x-pict"/>
  <Override PartName="/ppt/media/image6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515-2FC5-477E-8AC6-7E54EAEE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FE2-9BCD-4238-90DE-CE6B8D4E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131-C6E6-4419-BEB0-205CC20E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406-39B1-49F8-B586-186E33C0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A9E-1311-4DCC-9722-953DBB74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C6E-ED66-4F21-A103-111E5FF8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006-286C-4D7F-8A2D-3CD9B573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727-77C3-4F7E-893B-EEABF984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C54-7646-4FE7-A7DA-F01E840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2C1-4FE3-46E6-9241-4186503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06C-0ED5-4CAE-8848-9E34FDE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948-3157-4937-AB00-03D1D58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904-92AB-443E-BE24-3ED1B9894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stampe%2520Great-wave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952880" y="1371240"/>
            <a:ext cx="4191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marémo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du 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des vag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des cou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Energie thermique des 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des gradients de sali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ergie de la biom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2"/>
          <a:stretch/>
        </p:blipFill>
        <p:spPr>
          <a:xfrm>
            <a:off x="0" y="0"/>
            <a:ext cx="552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Les EnR Marines : l’E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651996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Estampe de Katsushika Hokusai (1760 - 1849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657760"/>
            <a:ext cx="3429000" cy="11890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Michel Paillard, Ifremer</a:t>
            </a: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Coordinateur EnR marines à Ifre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Animateur de la commission EnR marines au Pôle Mer Bre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Département TSI - Centre de B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Comic Sans MS"/>
              </a:rPr>
              <a:t>E-mail : michel.paillard@ifremer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Energie Thermique des 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Avenir ?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centrales pour production d ’hydrogène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1" descr=""/>
          <p:cNvPicPr/>
          <p:nvPr/>
        </p:nvPicPr>
        <p:blipFill>
          <a:blip r:embed="rId1"/>
          <a:stretch/>
        </p:blipFill>
        <p:spPr>
          <a:xfrm>
            <a:off x="0" y="0"/>
            <a:ext cx="5526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etmcuba1s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126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’une idée ancienne aux premières expéri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ans la zone intertropicale (dont DOM-TOM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n peut utiliser la différence de température entre la surface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t le fond (25°C) pour produire de l </a:t>
            </a:r>
            <a:r>
              <a:rPr b="1" lang="fr-FR" sz="1800" spc="-1" strike="noStrike">
                <a:solidFill>
                  <a:srgbClr val="cc3300"/>
                </a:solidFill>
                <a:latin typeface="Comic Sans MS"/>
              </a:rPr>
              <a:t>’électricité, de l ’eau </a:t>
            </a:r>
            <a:r>
              <a:rPr b="1" lang="fr-FR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cc3300"/>
                </a:solidFill>
                <a:latin typeface="Comic Sans MS"/>
              </a:rPr>
              <a:t>douce, du f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819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emiers essais années 1930 - Georges Cla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glo01" descr=""/>
          <p:cNvPicPr/>
          <p:nvPr/>
        </p:nvPicPr>
        <p:blipFill>
          <a:blip r:embed="rId3"/>
          <a:stretch/>
        </p:blipFill>
        <p:spPr>
          <a:xfrm>
            <a:off x="838080" y="2819520"/>
            <a:ext cx="4800600" cy="3324240"/>
          </a:xfrm>
          <a:prstGeom prst="rect">
            <a:avLst/>
          </a:prstGeom>
          <a:ln w="0">
            <a:noFill/>
          </a:ln>
        </p:spPr>
      </p:pic>
      <p:pic>
        <p:nvPicPr>
          <p:cNvPr id="54" name="etm" descr=""/>
          <p:cNvPicPr/>
          <p:nvPr/>
        </p:nvPicPr>
        <p:blipFill>
          <a:blip r:embed="rId4"/>
          <a:stretch/>
        </p:blipFill>
        <p:spPr>
          <a:xfrm>
            <a:off x="5867280" y="4862520"/>
            <a:ext cx="304812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otec" descr=""/>
          <p:cNvPicPr/>
          <p:nvPr/>
        </p:nvPicPr>
        <p:blipFill>
          <a:blip r:embed="rId5"/>
          <a:stretch/>
        </p:blipFill>
        <p:spPr>
          <a:xfrm>
            <a:off x="4114800" y="5445000"/>
            <a:ext cx="157968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268280"/>
            <a:ext cx="867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ans les années 70-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lusieurs expérimentations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" indent="-18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à Hawaï notam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800" indent="-1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Mini-OTEC (79) 52 kW, OTEC 1,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800" indent="-1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boucles diverses au NEL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" indent="-18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à Nau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800" indent="-1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centrale cycle fermé (81) 100 k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800" indent="-1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Comic Sans MS"/>
              </a:rPr>
              <a:t>1983 - 1987 : Projet ETM français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(OTEC - Ocean Thermal Energy Conver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* avant-projet pilote de 5 MW à Tahiti (Polynésie) - Ifremer + industr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nées 2000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Barge indo-japonaise « Sagar Shakthi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" indent="-18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projet de 1MW (mais perte du tuyau à l’installation en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800" indent="-1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Travaux continus au Japon (Saga) et aux US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(boucles et sous produits au NELH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jets à Hawaii (1 MW) et Diego-Garcia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Energie Thermique des 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4923000"/>
            <a:ext cx="2971800" cy="193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48769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Nouvelle installation destinée à la production d’eau douce annoncée par le NIOT en mai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go1" descr=""/>
          <p:cNvPicPr/>
          <p:nvPr/>
        </p:nvPicPr>
        <p:blipFill>
          <a:blip r:embed="rId2"/>
          <a:stretch/>
        </p:blipFill>
        <p:spPr>
          <a:xfrm>
            <a:off x="0" y="0"/>
            <a:ext cx="5526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image001" descr=""/>
          <p:cNvPicPr/>
          <p:nvPr/>
        </p:nvPicPr>
        <p:blipFill>
          <a:blip r:embed="rId3"/>
          <a:stretch/>
        </p:blipFill>
        <p:spPr>
          <a:xfrm>
            <a:off x="5334120" y="1295280"/>
            <a:ext cx="1676160" cy="1366920"/>
          </a:xfrm>
          <a:prstGeom prst="rect">
            <a:avLst/>
          </a:prstGeom>
          <a:ln w="0">
            <a:noFill/>
          </a:ln>
        </p:spPr>
      </p:pic>
      <p:pic>
        <p:nvPicPr>
          <p:cNvPr id="62" name="image007" descr=""/>
          <p:cNvPicPr/>
          <p:nvPr/>
        </p:nvPicPr>
        <p:blipFill>
          <a:blip r:embed="rId4"/>
          <a:stretch/>
        </p:blipFill>
        <p:spPr>
          <a:xfrm>
            <a:off x="7391520" y="1295280"/>
            <a:ext cx="1407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26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"/>
          </a:bodyPr>
          <a:p>
            <a:pPr marL="23760" indent="-23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uellement : Climatisation en Polynési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20" indent="-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ôtel à Bora-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20" indent="-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jet à Tah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20" indent="-1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840" indent="-1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Métropole : La Seyne sur 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ETM 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1" descr=""/>
          <p:cNvPicPr/>
          <p:nvPr/>
        </p:nvPicPr>
        <p:blipFill>
          <a:blip r:embed="rId1"/>
          <a:stretch/>
        </p:blipFill>
        <p:spPr>
          <a:xfrm>
            <a:off x="0" y="0"/>
            <a:ext cx="5526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eaufro1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3124080" cy="2424240"/>
          </a:xfrm>
          <a:prstGeom prst="rect">
            <a:avLst/>
          </a:prstGeom>
          <a:ln w="0">
            <a:noFill/>
          </a:ln>
        </p:spPr>
      </p:pic>
      <p:pic>
        <p:nvPicPr>
          <p:cNvPr id="67" name="swacloops" descr=""/>
          <p:cNvPicPr/>
          <p:nvPr/>
        </p:nvPicPr>
        <p:blipFill>
          <a:blip r:embed="rId3"/>
          <a:stretch/>
        </p:blipFill>
        <p:spPr>
          <a:xfrm>
            <a:off x="1066680" y="2286000"/>
            <a:ext cx="2305080" cy="1716120"/>
          </a:xfrm>
          <a:prstGeom prst="rect">
            <a:avLst/>
          </a:prstGeom>
          <a:ln w="0">
            <a:noFill/>
          </a:ln>
        </p:spPr>
      </p:pic>
      <p:pic>
        <p:nvPicPr>
          <p:cNvPr id="68" name="Clim-bora-A2" descr=""/>
          <p:cNvPicPr/>
          <p:nvPr/>
        </p:nvPicPr>
        <p:blipFill>
          <a:blip r:embed="rId4"/>
          <a:stretch/>
        </p:blipFill>
        <p:spPr>
          <a:xfrm>
            <a:off x="4114800" y="1905120"/>
            <a:ext cx="480060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533520"/>
            <a:ext cx="8748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fr-FR" sz="4400" spc="-1" strike="noStrike">
                <a:solidFill>
                  <a:srgbClr val="3333cc"/>
                </a:solidFill>
                <a:latin typeface="Comic Sans MS"/>
              </a:rPr>
              <a:t>Potentiels : </a:t>
            </a:r>
            <a:r>
              <a:rPr b="1" lang="fr-FR" sz="2200" spc="-1" strike="noStrike">
                <a:solidFill>
                  <a:srgbClr val="3333cc"/>
                </a:solidFill>
                <a:latin typeface="Comic Sans MS"/>
              </a:rPr>
              <a:t>11 millions km² de zones maritimes </a:t>
            </a:r>
            <a:r>
              <a:rPr b="1" lang="fr-FR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3333cc"/>
                </a:solidFill>
                <a:latin typeface="Comic Sans MS"/>
              </a:rPr>
              <a:t>       sous juridiction frança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cc3300"/>
                </a:solidFill>
                <a:latin typeface="Comic Sans MS"/>
              </a:rPr>
              <a:t>fort potentiel en énergie des vagues, énergie thermique des mers et dérivés, en éolien et localement en énergie des courants mar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2401920"/>
            <a:ext cx="8610480" cy="44560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0"/>
            <a:ext cx="569880" cy="6858000"/>
            <a:chOff x="0" y="0"/>
            <a:chExt cx="569880" cy="685800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561960" cy="685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165240" y="4876920"/>
            <a:ext cx="404640" cy="184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240" y="4876920"/>
                      <a:ext cx="404640" cy="18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5:49:57Z</dcterms:created>
  <dc:creator>tmsi</dc:creator>
  <dc:description/>
  <dc:language>en-US</dc:language>
  <cp:lastModifiedBy>R g</cp:lastModifiedBy>
  <cp:lastPrinted>2006-10-04T16:09:29Z</cp:lastPrinted>
  <dcterms:modified xsi:type="dcterms:W3CDTF">2007-10-18T08:57:44Z</dcterms:modified>
  <cp:revision>421</cp:revision>
  <dc:subject/>
  <dc:title>Aucun titre de diapositive</dc:title>
</cp:coreProperties>
</file>