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58416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832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5841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8320" y="35841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7080" y="83772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1000" y="83772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5841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7080" y="35841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1000" y="35841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8377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8320" y="8377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 Rounded MT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8320" y="8377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5841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832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8320" y="35841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832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58416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Rounded MT Bold"/>
              </a:rPr>
              <a:t>Click to edit the title text format</a:t>
            </a:r>
            <a:endParaRPr b="0" lang="en-US" sz="2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8377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438200" y="6510240"/>
            <a:ext cx="7705800" cy="34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66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 Rounded MT Bold"/>
              </a:rPr>
              <a:t>   </a:t>
            </a:r>
            <a:r>
              <a:rPr b="0" lang="en-US" sz="1200" spc="-1" strike="noStrike">
                <a:solidFill>
                  <a:srgbClr val="000066"/>
                </a:solidFill>
                <a:latin typeface="Arial Rounded MT Bold"/>
              </a:rPr>
              <a:t>Alain.Clement@ec-nantes.fr   /  Science &amp; Ethique    - BREST-      18 Octobre 200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6324480"/>
            <a:ext cx="461880" cy="5335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20720" y="6419880"/>
            <a:ext cx="441360" cy="44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l’énergie des  vague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421000"/>
            <a:ext cx="6705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lain CL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boratoire de Mécanique des Fluides –   LM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CNRS UMR 659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LE CENTRALE de NA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Rounded MT Bold"/>
              </a:rPr>
              <a:t>Futur proche : Fermes houlomotrices</a:t>
            </a:r>
            <a:endParaRPr b="0" lang="en-US" sz="2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685800"/>
            <a:ext cx="38862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87280" y="620640"/>
            <a:ext cx="7326360" cy="43959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395960" y="5516640"/>
            <a:ext cx="43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RCI DE VOTRE ATT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2925720"/>
            <a:ext cx="9036000" cy="1366920"/>
            <a:chOff x="0" y="2925720"/>
            <a:chExt cx="9036000" cy="1366920"/>
          </a:xfrm>
        </p:grpSpPr>
        <p:sp>
          <p:nvSpPr>
            <p:cNvPr id="44" name=""/>
            <p:cNvSpPr/>
            <p:nvPr/>
          </p:nvSpPr>
          <p:spPr>
            <a:xfrm>
              <a:off x="0" y="2925720"/>
              <a:ext cx="223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ahoma"/>
                </a:rPr>
                <a:t>Énergie solair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0920" y="3500280"/>
              <a:ext cx="87850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Reçue à la surface de la Terre et par an            ……    7,5·10</a:t>
              </a:r>
              <a:r>
                <a:rPr b="0" lang="en-US" sz="2000" spc="-1" strike="noStrike" baseline="30000">
                  <a:solidFill>
                    <a:srgbClr val="ffffff"/>
                  </a:solidFill>
                  <a:latin typeface="Tahoma"/>
                </a:rPr>
                <a:t>17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 kW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Reçue à la </a:t>
              </a:r>
              <a:r>
                <a:rPr b="0" lang="en-US" sz="2400" spc="-1" strike="noStrike">
                  <a:solidFill>
                    <a:srgbClr val="ff0066"/>
                  </a:solidFill>
                  <a:latin typeface="Tahoma"/>
                </a:rPr>
                <a:t>surface de la Mer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et par an          ……     5,0·10</a:t>
              </a:r>
              <a:r>
                <a:rPr b="0" lang="en-US" sz="2000" spc="-1" strike="noStrike" baseline="30000">
                  <a:solidFill>
                    <a:srgbClr val="ffffff"/>
                  </a:solidFill>
                  <a:latin typeface="Tahoma"/>
                </a:rPr>
                <a:t>17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 kW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7234200" y="6296040"/>
            <a:ext cx="1756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Source B.Multon  ENS Cacha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Rounded MT Bold"/>
              </a:rPr>
              <a:t>ENERGIE des MERS : quelques chiff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836640"/>
            <a:ext cx="8975520" cy="2016000"/>
            <a:chOff x="0" y="836640"/>
            <a:chExt cx="8975520" cy="2016000"/>
          </a:xfrm>
        </p:grpSpPr>
        <p:sp>
          <p:nvSpPr>
            <p:cNvPr id="49" name=""/>
            <p:cNvSpPr/>
            <p:nvPr/>
          </p:nvSpPr>
          <p:spPr>
            <a:xfrm>
              <a:off x="0" y="836640"/>
              <a:ext cx="8964720" cy="20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cc00"/>
                  </a:solidFill>
                  <a:latin typeface="Tahoma"/>
                </a:rPr>
                <a:t>Consommation d’énergie mondiale</a:t>
              </a:r>
              <a:r>
                <a:rPr b="0" lang="fr-FR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fr-FR" sz="20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fr-FR" sz="2400" spc="-1" strike="noStrike">
                  <a:solidFill>
                    <a:srgbClr val="ffffff"/>
                  </a:solidFill>
                  <a:latin typeface="Tahoma"/>
                </a:rPr>
                <a:t>1,4·10</a:t>
              </a:r>
              <a:r>
                <a:rPr b="0" lang="fr-FR" sz="2400" spc="-1" strike="noStrike" baseline="30000">
                  <a:solidFill>
                    <a:srgbClr val="ffffff"/>
                  </a:solidFill>
                  <a:latin typeface="Tahoma"/>
                </a:rPr>
                <a:t>14</a:t>
              </a:r>
              <a:r>
                <a:rPr b="0" lang="fr-FR" sz="2400" spc="-1" strike="noStrike">
                  <a:solidFill>
                    <a:srgbClr val="ffffff"/>
                  </a:solidFill>
                  <a:latin typeface="Tahoma"/>
                </a:rPr>
                <a:t> kWh   ( 140 000 TWh =  12 GTep 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698080" y="1989000"/>
              <a:ext cx="3277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55 % pays riches    (1,4 milliards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45 % pays pauvres (4,6 milliards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9640" y="1290600"/>
            <a:ext cx="8172720" cy="4514760"/>
            <a:chOff x="539640" y="1290600"/>
            <a:chExt cx="8172720" cy="4514760"/>
          </a:xfrm>
        </p:grpSpPr>
        <p:sp>
          <p:nvSpPr>
            <p:cNvPr id="52" name=""/>
            <p:cNvSpPr/>
            <p:nvPr/>
          </p:nvSpPr>
          <p:spPr>
            <a:xfrm>
              <a:off x="539640" y="4724280"/>
              <a:ext cx="81727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ahoma"/>
                </a:rPr>
                <a:t>   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ahoma"/>
                </a:rPr>
                <a:t>soit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ff0066"/>
                  </a:solidFill>
                  <a:latin typeface="Tahoma"/>
                </a:rPr>
                <a:t>3800 fois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Tahoma"/>
                </a:rPr>
                <a:t>la consommation d’énergie primaire de l’humanité !!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00000" y="1290600"/>
              <a:ext cx="2016360" cy="720720"/>
            </a:xfrm>
            <a:prstGeom prst="ellipse">
              <a:avLst/>
            </a:prstGeom>
            <a:noFill/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372360" y="3716280"/>
              <a:ext cx="2016000" cy="720720"/>
            </a:xfrm>
            <a:prstGeom prst="ellipse">
              <a:avLst/>
            </a:prstGeom>
            <a:noFill/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771640" y="1916280"/>
              <a:ext cx="3600720" cy="194436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Rounded MT Bold"/>
              </a:rPr>
              <a:t>ENERGIE des VAGUES :  le contexte  </a:t>
            </a:r>
            <a:endParaRPr b="0" lang="en-US" sz="2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692280"/>
            <a:ext cx="4392360" cy="3751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Énergie maré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Énergie des courants </a:t>
            </a:r>
            <a:r>
              <a:rPr b="0" i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(hydrolienne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Énergie des vagues </a:t>
            </a:r>
            <a:r>
              <a:rPr b="0" i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(houlomotrice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Énergie Thermique des Mers </a:t>
            </a:r>
            <a:r>
              <a:rPr b="0" i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(ETM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Énergie osmotique </a:t>
            </a:r>
            <a:r>
              <a:rPr b="0" i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(gradients de salinité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bio-Énergies marin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(biomasse – micro-algues,.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éolien – offsho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etc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907920"/>
            <a:ext cx="352908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ÉNERGIES de la M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1623960"/>
            <a:ext cx="8424720" cy="64764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« décollage » depuis 10 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76720" y="2565360"/>
            <a:ext cx="3745080" cy="30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Arial"/>
                <a:ea typeface="Arial"/>
              </a:rPr>
              <a:t>Pays développeurs technologies, R&amp;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EURO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Royaume Un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Portug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Norvè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Danema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JAP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USA / CAN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98560" y="4508640"/>
            <a:ext cx="3744720" cy="19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9933"/>
                </a:solidFill>
                <a:latin typeface="Arial"/>
                <a:ea typeface="Arial"/>
              </a:rPr>
              <a:t>Pays  « clients 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  <a:ea typeface="Arial"/>
              </a:rPr>
              <a:t>EUROPE : Irlande, Écosse, Angleterre, France, Portug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  <a:ea typeface="Arial"/>
              </a:rPr>
              <a:t>DOM-TOM : Nelle Calédonie, Réunion, etc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  <a:ea typeface="Arial"/>
              </a:rPr>
              <a:t>USA, AUSTRALIE, Nelle Zélande, Afrique du Su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  <a:ea typeface="Arial"/>
              </a:rPr>
              <a:t>Toutes les iles en développement hors zone intertropica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Rounded MT Bold"/>
              </a:rPr>
              <a:t>Energie des vagues  -  Potentiel  Mondial</a:t>
            </a:r>
            <a:endParaRPr b="0" lang="en-US" sz="2000" spc="-1" strike="noStrike">
              <a:solidFill>
                <a:srgbClr val="000066"/>
              </a:solidFill>
              <a:latin typeface="Arial Rounded MT Bold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604000" cy="5249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0920" y="5661000"/>
            <a:ext cx="76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Vagues (global) : 1,3 à 2 TW   </a:t>
            </a:r>
            <a:r>
              <a:rPr b="0" lang="fr-FR" sz="1400" spc="-1" strike="noStrike">
                <a:solidFill>
                  <a:srgbClr val="ffffff"/>
                </a:solidFill>
                <a:latin typeface="Arial Rounded MT Bold"/>
              </a:rPr>
              <a:t>(World Energy Counci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6000" y="6145200"/>
            <a:ext cx="33130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ondial électrique installé : 1,3 T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1370160"/>
            <a:ext cx="8305920" cy="11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rampe de déferlement (overtopp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Maurice, Maré, Tapchan, Wave Dragon, FWPV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5867280"/>
            <a:ext cx="4191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+ les « inclassables »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2286000"/>
            <a:ext cx="83059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onne d’eau oscillante   (OW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Kvaerner, Pico, Islay, LIMPET, OSPREY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342756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flotteu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- articulés  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(Cockerel raft, Pelamis, SEAREV,.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- sur ancrage   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(Salters duck, AWS,.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Rounded MT Bold"/>
              </a:rPr>
              <a:t>Energie des vagues  -  </a:t>
            </a:r>
            <a:r>
              <a:rPr b="0" lang="en-US" sz="2000" spc="-1" strike="noStrike">
                <a:solidFill>
                  <a:srgbClr val="cc3300"/>
                </a:solidFill>
                <a:latin typeface="Arial Rounded MT Bold"/>
              </a:rPr>
              <a:t>3 grandes familles de systè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Rounded MT Bold"/>
              </a:rPr>
              <a:t>Energie des vagues  -  divers procédés</a:t>
            </a:r>
            <a:endParaRPr b="0" lang="en-US" sz="2000" spc="-1" strike="noStrike">
              <a:solidFill>
                <a:srgbClr val="000066"/>
              </a:solidFill>
              <a:latin typeface="Arial Rounded MT Bold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788000" y="549360"/>
            <a:ext cx="4152960" cy="2836800"/>
            <a:chOff x="4788000" y="549360"/>
            <a:chExt cx="4152960" cy="2836800"/>
          </a:xfrm>
        </p:grpSpPr>
        <p:pic>
          <p:nvPicPr>
            <p:cNvPr id="73" name="" descr=""/>
            <p:cNvPicPr/>
            <p:nvPr/>
          </p:nvPicPr>
          <p:blipFill>
            <a:blip r:embed="rId1"/>
            <a:stretch/>
          </p:blipFill>
          <p:spPr>
            <a:xfrm>
              <a:off x="4788000" y="549360"/>
              <a:ext cx="4152960" cy="28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788000" y="620640"/>
              <a:ext cx="25207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marL="308520" indent="-308520" algn="just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AVE DRAGON (DK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08520" indent="-308520" algn="just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5219640" y="2637000"/>
            <a:ext cx="2481480" cy="3763800"/>
            <a:chOff x="5219640" y="2637000"/>
            <a:chExt cx="2481480" cy="3763800"/>
          </a:xfrm>
        </p:grpSpPr>
        <p:grpSp>
          <p:nvGrpSpPr>
            <p:cNvPr id="76" name=""/>
            <p:cNvGrpSpPr/>
            <p:nvPr/>
          </p:nvGrpSpPr>
          <p:grpSpPr>
            <a:xfrm>
              <a:off x="5219640" y="2637000"/>
              <a:ext cx="2481480" cy="3763800"/>
              <a:chOff x="5219640" y="2637000"/>
              <a:chExt cx="2481480" cy="3763800"/>
            </a:xfrm>
          </p:grpSpPr>
          <p:pic>
            <p:nvPicPr>
              <p:cNvPr id="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219640" y="2637000"/>
                <a:ext cx="2481480" cy="376380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969696"/>
                </a:outerShdw>
              </a:effectLst>
            </p:spPr>
          </p:pic>
          <p:sp>
            <p:nvSpPr>
              <p:cNvPr id="78" name=""/>
              <p:cNvSpPr txBox="1"/>
              <p:nvPr/>
            </p:nvSpPr>
            <p:spPr>
              <a:xfrm>
                <a:off x="5219640" y="2637000"/>
                <a:ext cx="2481480" cy="376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700"/>
                  </a:spcBef>
                  <a:buClr>
                    <a:srgbClr val="ffffff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5292720" y="5805360"/>
              <a:ext cx="22320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marL="325800" indent="-325800" algn="just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LONNE KVAERNER (NO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25800" indent="-325800" algn="just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79280" y="3284640"/>
            <a:ext cx="4437000" cy="2963880"/>
            <a:chOff x="179280" y="3284640"/>
            <a:chExt cx="4437000" cy="2963880"/>
          </a:xfrm>
        </p:grpSpPr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179280" y="3284640"/>
              <a:ext cx="4437000" cy="296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179280" y="3284640"/>
              <a:ext cx="25210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marL="308520" indent="-308520" algn="just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LAMIS  (UK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08520" indent="-308520" algn="just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179280" y="620640"/>
            <a:ext cx="4176720" cy="2109960"/>
            <a:chOff x="179280" y="620640"/>
            <a:chExt cx="4176720" cy="2109960"/>
          </a:xfrm>
        </p:grpSpPr>
        <p:pic>
          <p:nvPicPr>
            <p:cNvPr id="84" name="" descr=""/>
            <p:cNvPicPr/>
            <p:nvPr/>
          </p:nvPicPr>
          <p:blipFill>
            <a:blip r:embed="rId4"/>
            <a:stretch/>
          </p:blipFill>
          <p:spPr>
            <a:xfrm>
              <a:off x="179280" y="620640"/>
              <a:ext cx="4176720" cy="21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79280" y="692280"/>
              <a:ext cx="25210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marL="308520" indent="-308520" algn="just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G  (NO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08520" indent="-308520" algn="just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2195640" y="1628640"/>
            <a:ext cx="4895640" cy="3183120"/>
            <a:chOff x="2195640" y="1628640"/>
            <a:chExt cx="4895640" cy="3183120"/>
          </a:xfrm>
        </p:grpSpPr>
        <p:pic>
          <p:nvPicPr>
            <p:cNvPr id="87" name="" descr=""/>
            <p:cNvPicPr/>
            <p:nvPr/>
          </p:nvPicPr>
          <p:blipFill>
            <a:blip r:embed="rId5"/>
            <a:stretch/>
          </p:blipFill>
          <p:spPr>
            <a:xfrm>
              <a:off x="2195640" y="1628640"/>
              <a:ext cx="4895640" cy="318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195640" y="1628640"/>
              <a:ext cx="252072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312120" indent="-312120" algn="just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3  (NO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12120" indent="-312120" algn="just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Rounded MT Bold"/>
              </a:rPr>
              <a:t>FRANCE:       le  projet  SEAREV</a:t>
            </a:r>
            <a:endParaRPr b="0" lang="en-US" sz="2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920" y="1950840"/>
            <a:ext cx="8282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Système flottan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 algn="just"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cc00"/>
                </a:solidFill>
                <a:latin typeface="Arial"/>
                <a:ea typeface="Arial"/>
              </a:rPr>
              <a:t>sans référence au sol</a:t>
            </a:r>
            <a:r>
              <a:rPr b="0" lang="fr-FR" sz="1800" spc="-1" strike="noStrike">
                <a:solidFill>
                  <a:srgbClr val="9bff9b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 algn="just"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cc00"/>
                </a:solidFill>
                <a:latin typeface="Arial"/>
                <a:ea typeface="Arial"/>
              </a:rPr>
              <a:t>Insensibl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 au niveau de </a:t>
            </a:r>
            <a:r>
              <a:rPr b="1" lang="fr-FR" sz="1800" spc="-1" strike="noStrike">
                <a:solidFill>
                  <a:srgbClr val="ffcc00"/>
                </a:solidFill>
                <a:latin typeface="Arial"/>
                <a:ea typeface="Arial"/>
              </a:rPr>
              <a:t>maré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fr-FR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 marché larg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 algn="just"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cc00"/>
                </a:solidFill>
                <a:latin typeface="Arial"/>
                <a:ea typeface="Arial"/>
              </a:rPr>
              <a:t>Flotteur clos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 - composants abrités coque étan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Composants = </a:t>
            </a:r>
            <a:r>
              <a:rPr b="1" lang="fr-FR" sz="1800" spc="-1" strike="noStrike">
                <a:solidFill>
                  <a:srgbClr val="ffcc00"/>
                </a:solidFill>
                <a:latin typeface="Arial"/>
                <a:ea typeface="Arial"/>
              </a:rPr>
              <a:t>techno standard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 = robus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Innovation dans le </a:t>
            </a:r>
            <a:r>
              <a:rPr b="1" lang="fr-FR" sz="1800" spc="-1" strike="noStrike">
                <a:solidFill>
                  <a:srgbClr val="ffcc00"/>
                </a:solidFill>
                <a:latin typeface="Arial"/>
                <a:ea typeface="Arial"/>
              </a:rPr>
              <a:t>contrôl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 (informatique embarquée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 algn="just"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cc00"/>
                </a:solidFill>
                <a:latin typeface="Arial"/>
                <a:ea typeface="Arial"/>
              </a:rPr>
              <a:t>Maintenance facilitée à terr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 (décrochage – remorquag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 algn="just"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cc00"/>
                </a:solidFill>
                <a:latin typeface="Arial"/>
                <a:ea typeface="Arial"/>
              </a:rPr>
              <a:t>Impact visuel faible à nul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 (~10km des côt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 algn="just"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cc00"/>
                </a:solidFill>
                <a:latin typeface="Arial"/>
                <a:ea typeface="Arial"/>
              </a:rPr>
              <a:t>ENR  sans CO2</a:t>
            </a:r>
            <a:r>
              <a:rPr b="1" lang="fr-FR" sz="1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    (depl.  0,42 kg CO2 par kW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685800"/>
            <a:ext cx="38862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1905120"/>
            <a:ext cx="207720" cy="947520"/>
          </a:xfrm>
          <a:prstGeom prst="line">
            <a:avLst/>
          </a:prstGeom>
          <a:ln w="28440">
            <a:solidFill>
              <a:srgbClr val="777777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24360" y="549360"/>
            <a:ext cx="5081400" cy="3049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94" name=""/>
          <p:cNvSpPr/>
          <p:nvPr/>
        </p:nvSpPr>
        <p:spPr>
          <a:xfrm>
            <a:off x="-11880" y="947880"/>
            <a:ext cx="3408480" cy="1310760"/>
          </a:xfrm>
          <a:prstGeom prst="rect">
            <a:avLst/>
          </a:prstGeom>
          <a:solidFill>
            <a:srgbClr val="004600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10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25m x 13m x 15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PTO électro-hydrauli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0,5 M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~ 4000 hPP/a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Rounded MT Bold"/>
              </a:rPr>
              <a:t>FRANCE:       le  projet  SEAREV</a:t>
            </a:r>
            <a:endParaRPr b="0" lang="en-US" sz="2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685800"/>
            <a:ext cx="38862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727236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Rounded MT Bold"/>
              </a:rPr>
              <a:t>Futur proche : Fermes houlomotrices</a:t>
            </a:r>
            <a:endParaRPr b="0" lang="en-US" sz="2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685800"/>
            <a:ext cx="38862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1080" y="549360"/>
            <a:ext cx="233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SEM-REV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8720" y="1403280"/>
            <a:ext cx="865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e d’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sais à la 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ur la 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écupération de l’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rgie des 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9920" y="2781360"/>
            <a:ext cx="6878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Tahoma"/>
              </a:rPr>
              <a:t>Contrat de Projet ETAT / REGION CPER 2007-2013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 (5M€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Partenair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Ministère Ens. Sup. et Recher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Région Pays de la Loi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CG Loire-Atlan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CN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ECOLE CENTRALE de NANT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219640" y="3284640"/>
            <a:ext cx="377208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9:37:06Z</dcterms:created>
  <dc:creator>Aurélien Babarit</dc:creator>
  <dc:description/>
  <dc:language>en-US</dc:language>
  <cp:lastModifiedBy> Clément</cp:lastModifiedBy>
  <dcterms:modified xsi:type="dcterms:W3CDTF">2007-10-18T08:24:52Z</dcterms:modified>
  <cp:revision>172</cp:revision>
  <dc:subject/>
  <dc:title>SEAREV</dc:title>
</cp:coreProperties>
</file>